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875E-2C30-4484-B942-714BE5BB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827F-943D-4BFF-ADAA-3D07990E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4EF8-0DDD-4861-97CC-CB292EB0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7D38-67AE-4C7A-B1C1-D9F8B5F8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BA60-810A-435F-B67E-9E1C815A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FFEA-91A3-4A81-97F9-4630928B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B520-2340-4A5A-8BB9-CC406A0D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103D-BD28-45B3-A8E1-5774EDB0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73F1-3507-4375-892D-4CE75B14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8159-89E3-46C0-B0A3-F60F1D46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4E5E-F3C9-4CB2-AC55-13E6E748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A6FE-649B-45EA-86D3-825BC384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4E95-8148-4831-830D-A35A61A1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E6DA-DAF7-49B6-88C8-A070BC5B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E83B-2D46-472E-8296-CB6C3C9E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59C1-5A1D-4363-9FEF-927836AF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C2B4-7402-4A0B-881B-E673E5FF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EBAC9-9DCB-47E2-89BD-4AAA23EB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A9690-A65D-4C3F-90EC-8DB696DD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11B4A-4AF5-47D8-A2EB-07C3142D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5EF6-9758-4DF5-A080-9E2CA4C1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00C3-DB53-4E6C-8421-E2133C01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05EA-AADC-46D6-A764-8303171B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94B3-FD83-4F7D-9F33-E579B9FE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DA5E-F989-46E6-B17A-AB19F61ED0B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67D6-F947-4D77-9453-CA70A8F9570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359720"/>
            <a:ext cx="11279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3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4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Учителю небес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сети ни в този ч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помогни с молби и пес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 да славим, милий Спас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2266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и ние чада да стане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могни ни Ти сег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Дай такива да остане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а и през вечността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841680" y="1792800"/>
            <a:ext cx="71323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и агънца да бъде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послушни всеки ч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както Ти бе на земя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гне жертвено за нас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36840" y="1792800"/>
            <a:ext cx="75434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Ти Пастирю небес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гънцата Си вод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Ще Ти пеем хвални пес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рая, там ни заведи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28:03Z</dcterms:modified>
  <cp:revision>17</cp:revision>
  <dc:subject/>
  <dc:title>Slide 1</dc:title>
</cp:coreProperties>
</file>